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</p:sldIdLst>
  <p:sldSz cx="12193588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dt" idx="19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 type="sldImg"/>
          </p:nvPr>
        </p:nvSpPr>
        <p:spPr>
          <a:xfrm>
            <a:off x="90360" y="744120"/>
            <a:ext cx="66168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 type="ftr" idx="20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 type="sldNum" idx="21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0CCC6-02F7-49DA-9CA1-69FD23C37A44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90360" y="744480"/>
            <a:ext cx="6616800" cy="372276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Espaço Reservado para Número de Slid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840F5-31CF-4237-B66E-AE8837872B3A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90360" y="744480"/>
            <a:ext cx="6616800" cy="372276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Espaço Reservado para Número de Slid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B6E3C-9E9C-4EE0-B536-7E89EF653EF4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90360" y="744480"/>
            <a:ext cx="6616800" cy="372276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Espaço Reservado para Número de Slid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706AD-0D76-49CF-88F5-1B8D4AEBFB63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90360" y="744480"/>
            <a:ext cx="6616800" cy="37227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Espaço Reservado para Número de Slid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587CE-2202-4A6B-9E75-1E9829A06D39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54B2E-DA9B-4EED-8026-159A9B31F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136F7-1EB3-41EA-B384-786730300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E8229-88ED-4B5E-8B35-7C62BCBEF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31964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802980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0948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31964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802980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86C68-489F-4E4E-85BB-C8BC3B732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E600C-AB4F-4B5F-BAB0-0FD690309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40938-6119-447C-A4F6-E7936290C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68152-7FC7-49F9-96FA-F2B69CDEA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03948-08D7-41C2-97E6-4D60E64DA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FBA83-6583-4D14-8AFE-646030DF3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480" y="5569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C2D04-EA05-482C-9701-A93C8E0CC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00A04-9B5A-4579-9C7C-8F6D25221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D41DA-B45B-4909-A173-18372CCEF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154CD-840C-492F-84AD-4630EAB7B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7CBA5-18BA-4BB2-9C82-77A8A9C04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DE40F-5053-4181-B157-A6A2C27A0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06A0D-0BBD-4B89-BBD3-B18957A14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31964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802980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0948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431964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802980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73FA5-9837-45E1-B228-8C2033D08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694D1F-0601-4533-A111-17ED5F4FA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948950-5C68-4095-96E6-02C055B8D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BA779F-A341-4C83-978D-BB9F30F44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876CBB-C2CC-4C02-B327-EA17168FC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2B96E9-D320-4453-8E83-654519079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69307-8FEC-4FF8-ABBA-C78D73B03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480" y="5569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69A8CA-FC9F-47A4-A523-5F8986994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003B4F-41B8-4523-B49D-52C709D5D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FADD8C-7E77-4A41-8628-33432E7F0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14507B-62A2-4FF0-8A71-C92AB0939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7E99E6-B71A-4071-8EA4-47B741C84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111543-24D1-44F4-87FB-33660A206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31964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802980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0948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431964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802980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C1DB08-F127-4E95-8120-2B6B48E94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A01FD6-7F7E-448A-8E87-FB1AF26A5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941F89-B92A-4B45-ADCA-428AD5873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C1B686-9E42-421B-BF7C-7EEE030F0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CA4AB-3F5E-4A53-AD8F-CDB42EA12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09D393-A482-4F81-BBD0-5D9BA039D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FD26B8-CD37-4A14-85F3-47868FFD3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480" y="5569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BEB1F6-4A07-4B1E-9C03-F6122A77E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7D2686-A18D-4EDC-A859-5A793A4A1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BD4835-16E7-4333-9EF3-A0CAA6E8F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860ED2-9100-42E6-B52C-0F9E9B3E8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BEB42B-7121-49FC-A815-BD6766797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F46DD4-89AC-49B7-AD0C-0562DF0A9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31964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802980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0948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431964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802980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404EF2-0733-4AF1-9C98-60F76CBE4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B35480-2854-40C6-9C22-066AF5F11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6DFB4-E29A-4D41-9108-C6D30D2F5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ACC1C0-7E0A-4876-8692-99C2658DE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91021A-359E-4B2E-9293-23EE92259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87F4B2-6662-4FEF-832B-0802B8AB4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6ECF81-09A8-468A-83B3-9877AD525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609480" y="5569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F9E2DE-930A-4B92-B254-02BD9ED80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86D20D-4114-4792-AFFF-63A5C9A39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E4D2A7-1785-4D50-8EFE-109EFF1D5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EFB4A4-AF2D-4D18-8D22-6BADE849F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769515-3698-4C0D-9D02-306B76A85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D78639-E9FA-44DC-BB72-07AF8AEAE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480" y="5569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FEB9B-DB3E-4D0E-A3AD-B8F9C3D3F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31964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802980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60948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431964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802980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A62FFA-2265-4723-8B9F-1E01850F6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EEFD5F-EE46-44B4-871B-F4DE7737B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360150-58D5-4AD1-8B52-AFC9C2B3E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DBB37B-F9B8-4988-B7A1-D2E2C113D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06E739-1288-4D2C-A853-032D87CEA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4CCF40-9A8E-4E63-A91E-AC63D62FD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609480" y="5569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C9C899-DDB5-4541-AEDE-803ED5000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097B75-F633-4F66-82E3-A1B27F02B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F45252-ABBF-4C9D-95E3-C76B63C89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C6C02F-1172-4034-9407-23FCB2365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C9CF0-5ED7-4B04-80B0-9C6934F7A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8DFB1F-4872-41DA-A2D2-F6AEE0A63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E36A7E-F160-42C6-AA0E-935390484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31964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802980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60948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431964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802980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4998EF-E53E-4A32-B109-50016D30F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B97C2-8BAB-44D2-9D99-B32CFC29A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88C6C-DB82-4B3D-A930-8F63C7F4A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B2ACD-8BC8-4D3C-BC51-F1E08AABE12F}" type="datetime">
              <a:rPr b="0" lang="pt-BR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A7EC3-CDAB-454F-BB98-D4B6DC293678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tângulo 6"/>
          <p:cNvSpPr/>
          <p:nvPr/>
        </p:nvSpPr>
        <p:spPr>
          <a:xfrm>
            <a:off x="-7920" y="-9360"/>
            <a:ext cx="10496520" cy="701640"/>
          </a:xfrm>
          <a:prstGeom prst="rect">
            <a:avLst/>
          </a:prstGeom>
          <a:solidFill>
            <a:srgbClr val="126a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CaixaDeTexto 7"/>
          <p:cNvSpPr/>
          <p:nvPr/>
        </p:nvSpPr>
        <p:spPr>
          <a:xfrm>
            <a:off x="173160" y="66600"/>
            <a:ext cx="70088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SECRETARIA DE PREVIDÊNC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MINISTÉRIO DA FAZEND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Imagem 1" descr=""/>
          <p:cNvPicPr/>
          <p:nvPr/>
        </p:nvPicPr>
        <p:blipFill>
          <a:blip r:embed="rId2"/>
          <a:stretch/>
        </p:blipFill>
        <p:spPr>
          <a:xfrm>
            <a:off x="10618920" y="114480"/>
            <a:ext cx="1400040" cy="558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tângulo 6"/>
          <p:cNvSpPr/>
          <p:nvPr/>
        </p:nvSpPr>
        <p:spPr>
          <a:xfrm>
            <a:off x="-7920" y="-9360"/>
            <a:ext cx="10496520" cy="701640"/>
          </a:xfrm>
          <a:prstGeom prst="rect">
            <a:avLst/>
          </a:prstGeom>
          <a:solidFill>
            <a:srgbClr val="126a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CaixaDeTexto 7"/>
          <p:cNvSpPr/>
          <p:nvPr/>
        </p:nvSpPr>
        <p:spPr>
          <a:xfrm>
            <a:off x="173160" y="66600"/>
            <a:ext cx="70088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SECRETARIA DE PREVIDÊNC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MINISTÉRIO DA FAZEND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Imagem 1" descr=""/>
          <p:cNvPicPr/>
          <p:nvPr/>
        </p:nvPicPr>
        <p:blipFill>
          <a:blip r:embed="rId2"/>
          <a:stretch/>
        </p:blipFill>
        <p:spPr>
          <a:xfrm>
            <a:off x="10618920" y="114480"/>
            <a:ext cx="1400040" cy="5587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6A5C0-1B48-4E53-99F7-C1108CCACA8D}" type="datetime">
              <a:rPr b="0" lang="pt-BR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95C2F-1B53-4616-AB49-745BFFAA9042}" type="slidenum">
              <a:rPr b="1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tângulo 6"/>
          <p:cNvSpPr/>
          <p:nvPr/>
        </p:nvSpPr>
        <p:spPr>
          <a:xfrm>
            <a:off x="-7920" y="-9360"/>
            <a:ext cx="10496520" cy="701640"/>
          </a:xfrm>
          <a:prstGeom prst="rect">
            <a:avLst/>
          </a:prstGeom>
          <a:solidFill>
            <a:srgbClr val="126a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CaixaDeTexto 7"/>
          <p:cNvSpPr/>
          <p:nvPr/>
        </p:nvSpPr>
        <p:spPr>
          <a:xfrm>
            <a:off x="173160" y="66600"/>
            <a:ext cx="70088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SECRETARIA DE PREVIDÊNC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MINISTÉRIO DA FAZEND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Imagem 1" descr=""/>
          <p:cNvPicPr/>
          <p:nvPr/>
        </p:nvPicPr>
        <p:blipFill>
          <a:blip r:embed="rId2"/>
          <a:stretch/>
        </p:blipFill>
        <p:spPr>
          <a:xfrm>
            <a:off x="10618920" y="114480"/>
            <a:ext cx="1400040" cy="55872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E3BA9-417F-4178-8DF4-4D10D96BAEB3}" type="datetime">
              <a:rPr b="0" lang="pt-BR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A5632-5A62-4842-AE39-BDFA96C136D0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tângulo 6"/>
          <p:cNvSpPr/>
          <p:nvPr/>
        </p:nvSpPr>
        <p:spPr>
          <a:xfrm>
            <a:off x="-7920" y="-9360"/>
            <a:ext cx="10496520" cy="701640"/>
          </a:xfrm>
          <a:prstGeom prst="rect">
            <a:avLst/>
          </a:prstGeom>
          <a:solidFill>
            <a:srgbClr val="126a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CaixaDeTexto 7"/>
          <p:cNvSpPr/>
          <p:nvPr/>
        </p:nvSpPr>
        <p:spPr>
          <a:xfrm>
            <a:off x="173160" y="66600"/>
            <a:ext cx="70088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SECRETARIA DE PREVIDÊNC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MINISTÉRIO DA FAZEND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Imagem 1" descr=""/>
          <p:cNvPicPr/>
          <p:nvPr/>
        </p:nvPicPr>
        <p:blipFill>
          <a:blip r:embed="rId2"/>
          <a:stretch/>
        </p:blipFill>
        <p:spPr>
          <a:xfrm>
            <a:off x="10618920" y="114480"/>
            <a:ext cx="1400040" cy="55872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ACF36-D44A-44FA-8E1C-502DEBCA37C0}" type="datetime">
              <a:rPr b="0" lang="pt-BR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C0FA7-3B69-4EAB-ABA5-2916C94C2449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tângulo 6"/>
          <p:cNvSpPr/>
          <p:nvPr/>
        </p:nvSpPr>
        <p:spPr>
          <a:xfrm>
            <a:off x="-7920" y="-9360"/>
            <a:ext cx="10496520" cy="701640"/>
          </a:xfrm>
          <a:prstGeom prst="rect">
            <a:avLst/>
          </a:prstGeom>
          <a:solidFill>
            <a:srgbClr val="126a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CaixaDeTexto 7"/>
          <p:cNvSpPr/>
          <p:nvPr/>
        </p:nvSpPr>
        <p:spPr>
          <a:xfrm>
            <a:off x="173160" y="66600"/>
            <a:ext cx="70088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SECRETARIA DE PREVIDÊNC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MINISTÉRIO DA FAZEND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Imagem 1" descr=""/>
          <p:cNvPicPr/>
          <p:nvPr/>
        </p:nvPicPr>
        <p:blipFill>
          <a:blip r:embed="rId2"/>
          <a:stretch/>
        </p:blipFill>
        <p:spPr>
          <a:xfrm>
            <a:off x="10618920" y="114480"/>
            <a:ext cx="1400040" cy="558720"/>
          </a:xfrm>
          <a:prstGeom prst="rect">
            <a:avLst/>
          </a:prstGeom>
          <a:ln w="0">
            <a:noFill/>
          </a:ln>
        </p:spPr>
      </p:pic>
      <p:sp>
        <p:nvSpPr>
          <p:cNvPr id="179" name="Retângulo 9"/>
          <p:cNvSpPr/>
          <p:nvPr/>
        </p:nvSpPr>
        <p:spPr>
          <a:xfrm>
            <a:off x="11106000" y="6356520"/>
            <a:ext cx="384480" cy="501480"/>
          </a:xfrm>
          <a:prstGeom prst="rect">
            <a:avLst/>
          </a:prstGeom>
          <a:solidFill>
            <a:srgbClr val="92d05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dt" idx="13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CD8F4-ACD5-478E-AE20-0F607A82F0CF}" type="datetime">
              <a:rPr b="0" lang="pt-BR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ftr" idx="14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 type="sldNum" idx="15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D296B-78E3-49C4-BB08-8B5674A84580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tângulo 6"/>
          <p:cNvSpPr/>
          <p:nvPr/>
        </p:nvSpPr>
        <p:spPr>
          <a:xfrm>
            <a:off x="-7920" y="-9360"/>
            <a:ext cx="10496520" cy="701640"/>
          </a:xfrm>
          <a:prstGeom prst="rect">
            <a:avLst/>
          </a:prstGeom>
          <a:solidFill>
            <a:srgbClr val="126a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CaixaDeTexto 7"/>
          <p:cNvSpPr/>
          <p:nvPr/>
        </p:nvSpPr>
        <p:spPr>
          <a:xfrm>
            <a:off x="173160" y="66600"/>
            <a:ext cx="70088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SECRETARIA DE PREVIDÊNC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MINISTÉRIO DA FAZEND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Imagem 1" descr=""/>
          <p:cNvPicPr/>
          <p:nvPr/>
        </p:nvPicPr>
        <p:blipFill>
          <a:blip r:embed="rId2"/>
          <a:stretch/>
        </p:blipFill>
        <p:spPr>
          <a:xfrm>
            <a:off x="10618920" y="114480"/>
            <a:ext cx="1400040" cy="558720"/>
          </a:xfrm>
          <a:prstGeom prst="rect">
            <a:avLst/>
          </a:prstGeom>
          <a:ln w="0">
            <a:noFill/>
          </a:ln>
        </p:spPr>
      </p:pic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dt" idx="16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B2354-A07A-4BFB-B9B1-11CE65B9FE55}" type="datetime">
              <a:rPr b="0" lang="pt-BR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ftr" idx="17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sldNum" idx="18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B8834-7977-43EE-93E0-0E690A9CE2EA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Picture 2" descr="Figura2"/>
          <p:cNvPicPr/>
          <p:nvPr/>
        </p:nvPicPr>
        <p:blipFill>
          <a:blip r:embed="rId1"/>
          <a:stretch/>
        </p:blipFill>
        <p:spPr>
          <a:xfrm>
            <a:off x="2208240" y="1189080"/>
            <a:ext cx="7543800" cy="5192640"/>
          </a:xfrm>
          <a:prstGeom prst="rect">
            <a:avLst/>
          </a:prstGeom>
          <a:ln w="0">
            <a:noFill/>
          </a:ln>
        </p:spPr>
      </p:pic>
      <p:sp>
        <p:nvSpPr>
          <p:cNvPr id="273" name="Text Box 3"/>
          <p:cNvSpPr/>
          <p:nvPr/>
        </p:nvSpPr>
        <p:spPr>
          <a:xfrm>
            <a:off x="2567160" y="1413000"/>
            <a:ext cx="6933960" cy="41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5400" spc="-1" strike="noStrike">
                <a:solidFill>
                  <a:srgbClr val="000000"/>
                </a:solidFill>
                <a:latin typeface="Arial"/>
              </a:rPr>
              <a:t>Aposentados/as que exercem atividade remunerad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Brasília, agosto de 20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4"/>
          <p:cNvSpPr/>
          <p:nvPr/>
        </p:nvSpPr>
        <p:spPr>
          <a:xfrm>
            <a:off x="2063880" y="6165720"/>
            <a:ext cx="828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SRGPS – Subsecretaria do Regime Geral de Previdência Soc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2"/>
          <p:cNvSpPr/>
          <p:nvPr/>
        </p:nvSpPr>
        <p:spPr>
          <a:xfrm>
            <a:off x="479520" y="936720"/>
            <a:ext cx="10801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Remuneração Média Nominal em R$ por Tipo de Desligamento e Faixa Etária na Aposentadoria* CLT - RAIS/2015 – Posição Dezembro/20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3"/>
          <p:cNvSpPr/>
          <p:nvPr/>
        </p:nvSpPr>
        <p:spPr>
          <a:xfrm>
            <a:off x="4995720" y="112248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4"/>
          <p:cNvSpPr/>
          <p:nvPr/>
        </p:nvSpPr>
        <p:spPr>
          <a:xfrm>
            <a:off x="363600" y="6210360"/>
            <a:ext cx="10801440" cy="73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Fonte: RAIS/ 2015 * Os vínculos ativos por desligamento nos seguintes tipos (Aposentadoria Tempo de Contribuição Sem Rescisão Contratual, Aposentadoria por Idade Sem Rescisão Contratual, Aposentadoria Especial Sem Rescisão Contratual)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Elaboração: MF/SPREV/CGEP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8" name="Gráfico 6"/>
          <p:cNvGraphicFramePr/>
          <p:nvPr/>
        </p:nvGraphicFramePr>
        <p:xfrm>
          <a:off x="573120" y="1344600"/>
          <a:ext cx="10326600" cy="4851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09" name="Gráfico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3120" y="1344600"/>
                    <a:ext cx="10326600" cy="485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2"/>
          <p:cNvSpPr/>
          <p:nvPr/>
        </p:nvSpPr>
        <p:spPr>
          <a:xfrm>
            <a:off x="334800" y="765000"/>
            <a:ext cx="1080144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2060"/>
                </a:solidFill>
                <a:latin typeface="Arial"/>
                <a:ea typeface="Arial Unicode MS"/>
              </a:rPr>
              <a:t>Secretaria de Previdênc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2060"/>
                </a:solidFill>
                <a:latin typeface="Arial"/>
                <a:ea typeface="Arial Unicode MS"/>
              </a:rPr>
              <a:t>Subsecretaria de Regime Geral de Previdência Soc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2060"/>
                </a:solidFill>
                <a:latin typeface="Arial"/>
                <a:ea typeface="Arial Unicode MS"/>
              </a:rPr>
              <a:t>Coordenação-Geral de Estudos Previdenciár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2060"/>
                </a:solidFill>
                <a:latin typeface="Arial"/>
                <a:ea typeface="Arial Unicode MS"/>
              </a:rPr>
              <a:t> </a:t>
            </a:r>
            <a:r>
              <a:rPr b="1" lang="pt-BR" sz="3200" spc="-1" strike="noStrike">
                <a:solidFill>
                  <a:srgbClr val="002060"/>
                </a:solidFill>
                <a:latin typeface="Arial"/>
                <a:ea typeface="Arial Unicode MS"/>
              </a:rPr>
              <a:t>(61) 2021-50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2"/>
          <p:cNvSpPr/>
          <p:nvPr/>
        </p:nvSpPr>
        <p:spPr>
          <a:xfrm>
            <a:off x="334800" y="684360"/>
            <a:ext cx="107301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Quantidade de Vínculos Ativos por Aposentadoria* e UF – CLT – RAIS/20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3"/>
          <p:cNvSpPr/>
          <p:nvPr/>
        </p:nvSpPr>
        <p:spPr>
          <a:xfrm>
            <a:off x="334800" y="6235560"/>
            <a:ext cx="1044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Fonte: RAIS/ 2015 * Os vínculos ativos por desligamento nos seguintes tipos (Aposentadoria Tempo de Contribuição Sem Rescisão Contratual, Aposentadoria por Idade Sem Rescisão Contratual, Aposentadoria Especial Sem Rescisão Contratual)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Elaboração: MF/SPREV/CGEPR</a:t>
            </a: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7" name=""/>
          <p:cNvGraphicFramePr/>
          <p:nvPr/>
        </p:nvGraphicFramePr>
        <p:xfrm>
          <a:off x="1271520" y="1268280"/>
          <a:ext cx="6408720" cy="4969080"/>
        </p:xfrm>
        <a:graphic>
          <a:graphicData uri="http://schemas.openxmlformats.org/drawingml/2006/table">
            <a:tbl>
              <a:tblPr/>
              <a:tblGrid>
                <a:gridCol w="1524240"/>
                <a:gridCol w="1331640"/>
                <a:gridCol w="1330560"/>
                <a:gridCol w="1260360"/>
                <a:gridCol w="961920"/>
              </a:tblGrid>
              <a:tr h="254160">
                <a:tc gridSpan="5"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antidade de Vínculos Ativos por Aposentadoria* CLT - RAIS 20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1120">
                <a:tc rowSpan="2"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F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 gridSpan="4"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tivo Desligament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3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osentadoria Tempo de Contribuição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osentadoria por Idade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osentadoria Especial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</a:tr>
              <a:tr h="14472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ndôni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</a:tr>
              <a:tr h="14436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r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</a:tr>
              <a:tr h="14436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azona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</a:tr>
              <a:tr h="14436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raim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</a:tr>
              <a:tr h="14472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á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</a:tr>
              <a:tr h="14436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apá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</a:tr>
              <a:tr h="14436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cantin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</a:tr>
              <a:tr h="14472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anhã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</a:tr>
              <a:tr h="14436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auí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0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</a:tr>
              <a:tr h="14436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ará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8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1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</a:tr>
              <a:tr h="14436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o Grande do Nort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4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</a:tr>
              <a:tr h="17172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aíb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</a:tr>
              <a:tr h="14436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nambuc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2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63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</a:tr>
              <a:tr h="14436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agoa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</a:tr>
              <a:tr h="14436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rgip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5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10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</a:tr>
              <a:tr h="21276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hi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66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02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</a:tr>
              <a:tr h="14472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nas Gerai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84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4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0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</a:tr>
              <a:tr h="14436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pírito Sant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29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6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</a:tr>
              <a:tr h="14436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o de Janeir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26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9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9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</a:tr>
              <a:tr h="14472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ão Paul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.0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1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03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.16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</a:tr>
              <a:tr h="14436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aná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94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4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</a:tr>
              <a:tr h="14436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nta Catarin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37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70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</a:tr>
              <a:tr h="14436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o Grande do Su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28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47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</a:tr>
              <a:tr h="14472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to Grosso do Su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</a:tr>
              <a:tr h="14436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to Gross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</a:tr>
              <a:tr h="14436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iá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3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</a:tr>
              <a:tr h="14472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rito Federa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3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20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</a:tr>
              <a:tr h="14436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6.15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25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26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7.67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78" name=""/>
          <p:cNvGraphicFramePr/>
          <p:nvPr/>
        </p:nvGraphicFramePr>
        <p:xfrm>
          <a:off x="8183520" y="1349280"/>
          <a:ext cx="1928880" cy="4876920"/>
        </p:xfrm>
        <a:graphic>
          <a:graphicData uri="http://schemas.openxmlformats.org/drawingml/2006/table">
            <a:tbl>
              <a:tblPr/>
              <a:tblGrid>
                <a:gridCol w="1436760"/>
                <a:gridCol w="492120"/>
              </a:tblGrid>
              <a:tr h="24768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raim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460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apá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460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3184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canti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420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ndôn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496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anhã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072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aíb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460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to Grosso do Su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316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to Gross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460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ago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460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azon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316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o Grande do Nor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460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á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280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iá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3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496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auí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280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rgi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1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460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ará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1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316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rito Feder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2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460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pírito Sant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6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316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nambuc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63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460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h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0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280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nta Catarin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70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460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aná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4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316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nas Gerai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460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o Grande do Su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316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o de Janeir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9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460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ão Paul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.16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2"/>
          <p:cNvSpPr/>
          <p:nvPr/>
        </p:nvSpPr>
        <p:spPr>
          <a:xfrm>
            <a:off x="407880" y="765000"/>
            <a:ext cx="108507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Quantidade total de Vínculos Ativos por Aposentadoria* - RAIS/20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3"/>
          <p:cNvSpPr/>
          <p:nvPr/>
        </p:nvSpPr>
        <p:spPr>
          <a:xfrm>
            <a:off x="1000080" y="6288120"/>
            <a:ext cx="102250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Fonte: RAIS/ 2015 * Os vínculos ativos por desligamento nos seguintes tipos (Aposentadoria Tempo de Contribuição Sem Rescisão Contratual, Aposentadoria por Idade Sem Rescisão Contratual, Aposentadoria Especial Sem Rescisão Contratual)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Elaboração: MF/SPREV/CGEP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1" name="Gráfico 4"/>
          <p:cNvGraphicFramePr/>
          <p:nvPr/>
        </p:nvGraphicFramePr>
        <p:xfrm>
          <a:off x="1652760" y="1219320"/>
          <a:ext cx="7788240" cy="5060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82" name="Gráfico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52760" y="1219320"/>
                    <a:ext cx="7788240" cy="506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2"/>
          <p:cNvSpPr/>
          <p:nvPr/>
        </p:nvSpPr>
        <p:spPr>
          <a:xfrm>
            <a:off x="334800" y="765000"/>
            <a:ext cx="107301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Quantidade de Vínculos Ativos* por Setor de Atividade e Faixa Etária - CLT – RAIS/20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95160" y="1773360"/>
          <a:ext cx="10887120" cy="3070080"/>
        </p:xfrm>
        <a:graphic>
          <a:graphicData uri="http://schemas.openxmlformats.org/drawingml/2006/table">
            <a:tbl>
              <a:tblPr/>
              <a:tblGrid>
                <a:gridCol w="1400400"/>
                <a:gridCol w="1222200"/>
                <a:gridCol w="1222560"/>
                <a:gridCol w="1157040"/>
                <a:gridCol w="882720"/>
                <a:gridCol w="917640"/>
                <a:gridCol w="1025640"/>
                <a:gridCol w="1528560"/>
                <a:gridCol w="1530360"/>
              </a:tblGrid>
              <a:tr h="341280">
                <a:tc gridSpan="9"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antidade de Vínculos Ativos por Aposentadoria* e Setor Atividade CLT - RAIS 20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9880">
                <a:tc rowSpan="2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ixa Etári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 gridSpan="8"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BGE Seto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70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trativa miner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9000" rIns="9000" tIns="900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ústria de transformaçã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9000" rIns="9000" tIns="900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rviços industriais de utilidade públic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9000" rIns="9000" tIns="900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trução Civi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9000" rIns="9000" tIns="900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érci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9000" rIns="9000" tIns="900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rviço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9000" rIns="9000" tIns="900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ministração Públic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9000" rIns="9000" tIns="900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gropecuária, extração vegetal, caça e pesc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</a:tr>
              <a:tr h="31104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 a 39*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2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284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 a 4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08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83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104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 a 6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9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63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6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23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.6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50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284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 e mai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39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09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6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104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28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.77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18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83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.47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38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85" name="CaixaDeTexto 2"/>
          <p:cNvSpPr/>
          <p:nvPr/>
        </p:nvSpPr>
        <p:spPr>
          <a:xfrm>
            <a:off x="450720" y="5877000"/>
            <a:ext cx="989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* Foi estabelecido um intervalo maior de faixa etária devido a erros de preenchimento na RAIS, o que explica a existência de aposentadoria em idades muito precoc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3"/>
          <p:cNvSpPr/>
          <p:nvPr/>
        </p:nvSpPr>
        <p:spPr>
          <a:xfrm>
            <a:off x="450720" y="6143760"/>
            <a:ext cx="1044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Fonte: RAIS/ 2015 * Os vínculos ativos por desligamento nos seguintes tipos (Aposentadoria Tempo de Contribuição Sem Rescisão Contratual, Aposentadoria por Idade Sem Rescisão Contratual, Aposentadoria Especial Sem Rescisão Contratual)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Elaboração: MF/SPREV/CGEPR</a:t>
            </a: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2"/>
          <p:cNvSpPr/>
          <p:nvPr/>
        </p:nvSpPr>
        <p:spPr>
          <a:xfrm>
            <a:off x="587520" y="932040"/>
            <a:ext cx="108010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Quantidade Total  de Vínculos Ativos* por Setor de Atividade - CLT – RAIS/20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3"/>
          <p:cNvSpPr/>
          <p:nvPr/>
        </p:nvSpPr>
        <p:spPr>
          <a:xfrm>
            <a:off x="479520" y="6202440"/>
            <a:ext cx="108010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Fonte: RAIS/ 2015 * Os vínculos ativos por desligamento nos seguintes tipos (Aposentadoria Tempo de Contribuição Sem Rescisão Contratual, Aposentadoria por Idade Sem Rescisão Contratual, Aposentadoria Especial Sem Rescisão Contratual)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Elaboração: MF/SPREV/CGEP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9" name="Gráfico 7"/>
          <p:cNvGraphicFramePr/>
          <p:nvPr/>
        </p:nvGraphicFramePr>
        <p:xfrm>
          <a:off x="2228760" y="1511280"/>
          <a:ext cx="7518600" cy="4853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90" name="Gráfico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28760" y="1511280"/>
                    <a:ext cx="7518600" cy="485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2"/>
          <p:cNvSpPr/>
          <p:nvPr/>
        </p:nvSpPr>
        <p:spPr>
          <a:xfrm>
            <a:off x="623880" y="836640"/>
            <a:ext cx="10585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Quantidade de Vínculos Ativos*  por Faixa de Remuneração (Salário Mínimo) e Sexo CLT – RAIS/20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3"/>
          <p:cNvSpPr/>
          <p:nvPr/>
        </p:nvSpPr>
        <p:spPr>
          <a:xfrm>
            <a:off x="515880" y="6211800"/>
            <a:ext cx="111603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Fonte: RAIS/ 2015 * Os vínculos ativos por desligamento nos seguintes tipos (Aposentadoria Tempo de Contribuição Sem Rescisão Contratual, Aposentadoria por Idade Sem Rescisão Contratual, Aposentadoria Especial Sem Rescisão Contratual)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Elaboração: MF/SPREV/CGEP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623880" y="1989000"/>
          <a:ext cx="10585440" cy="2052720"/>
        </p:xfrm>
        <a:graphic>
          <a:graphicData uri="http://schemas.openxmlformats.org/drawingml/2006/table">
            <a:tbl>
              <a:tblPr/>
              <a:tblGrid>
                <a:gridCol w="1012680"/>
                <a:gridCol w="681120"/>
                <a:gridCol w="722520"/>
                <a:gridCol w="725400"/>
                <a:gridCol w="668160"/>
                <a:gridCol w="736560"/>
                <a:gridCol w="736920"/>
                <a:gridCol w="722160"/>
                <a:gridCol w="654120"/>
                <a:gridCol w="654120"/>
                <a:gridCol w="653760"/>
                <a:gridCol w="654120"/>
                <a:gridCol w="655560"/>
                <a:gridCol w="654120"/>
                <a:gridCol w="654120"/>
              </a:tblGrid>
              <a:tr h="39708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x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 gridSpan="14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ixa de Remuneraçã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6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≤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 S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 0.5 a 1 S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 1 a 1.5 S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1.5 a 2 S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 2 a 3 S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3 a 4 S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 4 a 5 S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 5 a 7 S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7 a 10 S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 10 a 15 S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 15 a 20 S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 20 S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{ñ class}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</a:tr>
              <a:tr h="3970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sculin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7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87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39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75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58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5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1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98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87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3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99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.18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52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minin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9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5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9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48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8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49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59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36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9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8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.4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67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06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44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37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2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4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0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69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35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39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23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8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7.67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2"/>
          <p:cNvSpPr/>
          <p:nvPr/>
        </p:nvSpPr>
        <p:spPr>
          <a:xfrm>
            <a:off x="334800" y="698400"/>
            <a:ext cx="1080144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Quantidade Total de Vínculos  Ativos* por Faixa de Remuneração (Salário Mínim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CLT – RAIS/20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3"/>
          <p:cNvSpPr/>
          <p:nvPr/>
        </p:nvSpPr>
        <p:spPr>
          <a:xfrm>
            <a:off x="334800" y="6350040"/>
            <a:ext cx="103917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Fonte: RAIS/ 2015 * Os vínculos ativos por desligamento nos seguintes tipos (Aposentadoria Tempo de Contribuição Sem Rescisão Contratual, Aposentadoria por Idade Sem Rescisão Contratual, Aposentadoria Especial Sem Rescisão Contratual)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Elaboração: MF/SPREV/CGEP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6" name="Gráfico 4"/>
          <p:cNvGraphicFramePr/>
          <p:nvPr/>
        </p:nvGraphicFramePr>
        <p:xfrm>
          <a:off x="233280" y="1506600"/>
          <a:ext cx="10544400" cy="4824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97" name="Gráfico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3280" y="1506600"/>
                    <a:ext cx="10544400" cy="482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2"/>
          <p:cNvSpPr/>
          <p:nvPr/>
        </p:nvSpPr>
        <p:spPr>
          <a:xfrm>
            <a:off x="344520" y="606600"/>
            <a:ext cx="110538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Quantidade de Vínculos Ativos* por Faixa de Remuneração (Salário Mínimo) e Sexo CLT - RAIS 2015</a:t>
            </a:r>
            <a:r>
              <a:rPr b="1" lang="pt-BR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20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3"/>
          <p:cNvSpPr/>
          <p:nvPr/>
        </p:nvSpPr>
        <p:spPr>
          <a:xfrm>
            <a:off x="334800" y="6334200"/>
            <a:ext cx="11306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Fonte: RAIS/ 2015 * Os vínculos ativos por desligamento nos seguintes tipos (Aposentadoria Tempo de Contribuição Sem Rescisão Contratual, Aposentadoria por Idade Sem Rescisão Contratual, Aposentadoria Especial Sem Rescisão Contratual)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Elaboração: MF/SPREV/CGEP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0" name="Gráfico 5"/>
          <p:cNvGraphicFramePr/>
          <p:nvPr/>
        </p:nvGraphicFramePr>
        <p:xfrm>
          <a:off x="896760" y="1300320"/>
          <a:ext cx="10182240" cy="5135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01" name="Gráfico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96760" y="1300320"/>
                    <a:ext cx="10182240" cy="513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2"/>
          <p:cNvSpPr/>
          <p:nvPr/>
        </p:nvSpPr>
        <p:spPr>
          <a:xfrm>
            <a:off x="987480" y="765000"/>
            <a:ext cx="100774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Remuneração Média Nominal em R$ por Tipo de Desligamento e Faixa Etária na Aposentadoria* CLT - RAIS/2015 - Posição Dezembro/20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tângulo 2"/>
          <p:cNvSpPr/>
          <p:nvPr/>
        </p:nvSpPr>
        <p:spPr>
          <a:xfrm>
            <a:off x="987480" y="6093000"/>
            <a:ext cx="10217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Fonte: RAIS/ 2015 * Os vínculos ativos por desligamento nos seguintes tipos (Aposentadoria Tempo de Contribuição Sem Rescisão Contratual, Aposentadoria por Idade Sem Rescisão Contratual, Aposentadoria Especial Sem Rescisão Contratual)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Elaboração: MF/SPREV/CGEP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4" name=""/>
          <p:cNvGraphicFramePr/>
          <p:nvPr/>
        </p:nvGraphicFramePr>
        <p:xfrm>
          <a:off x="1127160" y="1773360"/>
          <a:ext cx="9793080" cy="3887640"/>
        </p:xfrm>
        <a:graphic>
          <a:graphicData uri="http://schemas.openxmlformats.org/drawingml/2006/table">
            <a:tbl>
              <a:tblPr/>
              <a:tblGrid>
                <a:gridCol w="1461960"/>
                <a:gridCol w="2210040"/>
                <a:gridCol w="1800000"/>
                <a:gridCol w="2521080"/>
                <a:gridCol w="1800000"/>
              </a:tblGrid>
              <a:tr h="892080">
                <a:tc gridSpan="5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muneração Média Nominal em R$ por Tipo  de Desligamento e Faixa Etária na Aposentadoria* CLT - RAIS/20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224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osentadoria Tempo de Contribuiçã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osentadoria por Ida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osentadoria Especia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</a:tr>
              <a:tr h="3744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 a 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859,6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636,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206,8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568,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47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 a 4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681,8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907,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070,8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734,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47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 a 6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181,7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509,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943,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897,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44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 e ma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622,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022,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462,8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753,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47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893,8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230,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795,8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520,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2-12T16:57:42Z</dcterms:created>
  <dc:creator>46163212134</dc:creator>
  <dc:description/>
  <dc:language>en-US</dc:language>
  <cp:lastModifiedBy>Silvana do Socorro Machado Rodrigues - MPS</cp:lastModifiedBy>
  <cp:lastPrinted>2017-01-26T10:42:46Z</cp:lastPrinted>
  <dcterms:modified xsi:type="dcterms:W3CDTF">2017-08-04T17:02:49Z</dcterms:modified>
  <cp:revision>455</cp:revision>
  <dc:subject/>
  <dc:title>Demografia</dc:title>
</cp:coreProperties>
</file>